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DF19-9C74-4D21-A9CD-F83F1548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A526-9494-4A8C-99EE-31C0B9B8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51F4-94AA-40CD-AA2B-070A1F75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2CBD-7192-4AA8-9DD7-A424B986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3F4C-9C04-4EDE-B1C8-DE8F67CA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2FBA-4375-41DD-9006-C852C7A1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4DD7-AE2A-48BF-943D-4B773CC1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B2E3-09FA-4EE8-BAB4-8CEAC372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8414-69D9-4503-8E80-DCEE7F6D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60DF-3577-4CFE-AE7C-199B6D2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D6A0-2C07-4C0A-9EC0-2B544507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146F-5548-45F2-9811-59E0C24B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0640-A5D6-4669-8A5A-03274504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2A96-A319-4453-88B3-1A0E2EAB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32C3-0710-4FB2-951B-97FFB063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62BB-1216-40FF-8761-6F49D209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4881-AFE6-4437-8591-447BB3DB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F955-7337-4474-8B47-528CB36E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6D0F-3662-4E33-8EB4-F5D1A14D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737E-FEAF-4890-85E0-3D128907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47A3-B76F-4920-90E3-5CAC2867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695A-2ABD-4C69-A601-692450AD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9099-6023-437F-990D-87E9BFFC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B9B7-BB41-4BF5-9091-4289409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77F7-59F5-471A-BD6D-CC1F3EF50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BF2-8F92-49B0-AC74-A87226609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mple Shift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" y="177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000" y="1326960"/>
            <a:ext cx="726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encipher/decipher using a simple shif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70200" y="2114640"/>
            <a:ext cx="5121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23162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2916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imple Shi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under the Cipher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7960" y="3959280"/>
            <a:ext cx="3124440" cy="842760"/>
            <a:chOff x="237960" y="3959280"/>
            <a:chExt cx="3124440" cy="842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37960" y="3959280"/>
              <a:ext cx="3124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81160" y="4416480"/>
              <a:ext cx="238320" cy="10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5640" y="49640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hif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" y="549756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n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4029120"/>
            <a:ext cx="542880" cy="295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30400" y="27637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7040" y="4506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nxnxfxfruq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13ECF-B3F9-4BEC-9F50-4EA3E4A728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4T22:44:56Z</dcterms:modified>
  <cp:revision>68</cp:revision>
  <dc:subject/>
  <dc:title>CAP Cryptographic Analysis Program</dc:title>
</cp:coreProperties>
</file>